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6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move the slide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5DCF2-D20C-4E42-9E8E-4D766B6EFEDA}" type="slidenum">
              <a:rPr b="0" lang="en-N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Calibri"/>
              </a:rPr>
              <a:t>Jools and     Topp, Barak Obama, Mahinur Ozdemir: First Belgium MP to Don the Hijab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DC8AD-D0F2-4CB1-8928-E0FCAC35690E}" type="slidenum">
              <a:rPr b="0" lang="en-N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8A110-8170-4DEE-AC90-C4E62E989194}" type="slidenum">
              <a:rPr b="0" lang="en-N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72FB1-61CD-4011-9906-ADCAAB35D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44579-F12E-4351-9891-18836FF61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663E1-C52E-4793-BC87-FDCEE240C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90A8B-69DE-48DD-87A7-DB005FFE6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D43788-8E23-42C3-93C8-014482A48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ED5A27-C895-4DFA-9BB1-DDA51E7DE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A3CD4A-61FF-4D4D-A34F-F14B80BD5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95D467-ABAB-4B0D-868F-438699179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805444-9D84-45EA-8807-335BEDF5C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F877A3-615C-4831-A2D4-130B58170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88C892-66D9-4870-94E2-78C045EB6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C48DB-C98B-41AF-A56B-A38AC81E1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C333D8-0812-476D-A097-DBC992D6D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5350F8-E4A9-4E17-BFA4-7414892C6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967EC0-0394-450A-84DD-61095D565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BC611D-E4BC-47A0-8C6D-14AAC0166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D4F954-E2CB-46C1-BAF7-73EE34CB4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BD48DF-A00F-4223-83C6-CCC1C9370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EA1E15-EAD7-429D-8C41-E9DD19B83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186E8C-6633-45E2-8800-D7256CEF5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330943-D122-42B6-B9FE-792AAA059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F1D7F9-3CDE-461B-9BCB-A265DEA64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4BC24-1F7D-49EB-8E15-21BE5131D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367345-92B7-4ADB-BBA8-5078C21E9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25FA38-B134-42CD-8F23-4EF5F9695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F4CB30-0223-4CA5-9A76-0DA3EF6BA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B9E049-3C22-4CCC-8C44-3341A5631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A87B47-E851-459F-99AA-B3E9EAAB9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433BA7-2B21-49E9-BC26-A74C728CD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DB5997-C15C-4F76-A54A-15A862CD6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F76C3C2-0358-44C1-A41A-2E98C5566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36BC4C7-4096-43BD-A210-5489DFFC4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8B4EB40-85FC-4FB9-9D49-66B648997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9366F-CA27-49E4-8B6C-DE011A072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AB2FECB-4C60-46FF-878C-AD3D60EB3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98E3FDF-7239-4DD0-9AB9-5FA2C3131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B34BE92-60BB-4BF0-9D59-A2EC655F4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84344EB-CB03-4FFA-AD88-C4A68E7A2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A8C808B-5C0B-4923-89FF-A7FAB8C1E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2DF9844-0FC3-43B9-B3D1-30C7886A5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D71C70E-424C-4533-BFC0-F29A12EF6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D4C7ACA-E6F9-410A-A646-0B3F6C903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942F2C9-9359-45A9-A7FB-02FB93C3A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2851F-581D-4CDD-A554-C5CA8DED2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AFB00-01E5-4AF2-9CAE-5A6AEF60B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DE715-0DD9-4D2E-BC35-733DD52F0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87711-764F-4AD7-9CD9-BA28321DD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152F2-88EA-4045-A335-4216699CB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ccb4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b39e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9583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b39e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b39e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600" spc="-1" strike="noStrike">
                <a:solidFill>
                  <a:srgbClr val="c5d1d7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84171-011C-43C8-99E1-5EBA858934C7}" type="slidenum">
              <a:rPr b="0" lang="en-NZ" sz="1600" spc="-1" strike="noStrike">
                <a:solidFill>
                  <a:srgbClr val="c5d1d7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aebe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Straight Connector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aebe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Oval 8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ccb400"/>
          </a:solidFill>
          <a:ln w="38160">
            <a:solidFill>
              <a:srgbClr val="ccb400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ccb4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b39e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9583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b39e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b39e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600" spc="-1" strike="noStrike">
                <a:solidFill>
                  <a:srgbClr val="c5d1d7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B2C41-BD34-4E5F-A487-2EA95D96306C}" type="slidenum">
              <a:rPr b="0" lang="en-NZ" sz="1600" spc="-1" strike="noStrike">
                <a:solidFill>
                  <a:srgbClr val="c5d1d7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traight Connector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ccb4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b39e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9583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b39e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b39e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600" spc="-1" strike="noStrike">
                <a:solidFill>
                  <a:srgbClr val="c5d1d7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B0165-EE59-4908-84DA-278653DD9516}" type="slidenum">
              <a:rPr b="0" lang="en-NZ" sz="1600" spc="-1" strike="noStrike">
                <a:solidFill>
                  <a:srgbClr val="c5d1d7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Straight Connector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aebe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Straight Connector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aebe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ccb4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b39e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9583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b39e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b39e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600" spc="-1" strike="noStrike">
                <a:solidFill>
                  <a:srgbClr val="c5d1d7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A0241-6F0E-4490-A770-935F97CE7BC0}" type="slidenum">
              <a:rPr b="0" lang="en-NZ" sz="1600" spc="-1" strike="noStrike">
                <a:solidFill>
                  <a:srgbClr val="c5d1d7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justaddnewzealanders.com/assets/images/large/topp-twins.jpg&amp;imgrefurl=http://www.justaddnewzealanders.com/trailers/topp-twins-untouchable-girls&amp;usg=__psrzcUWXNw9kFqjMeZi2sZ5sISc=&amp;h=721&amp;w=800&amp;sz=101&amp;hl=en&amp;start=77&amp;tbnid=X4az5mhrrwIqCM:&amp;tbnh=129&amp;tbnw=143&amp;prev=/images%3Fq%3Djools%2Btopp%26gbv%3D2%26ndsp%3D20%26hl%3Den%26sa%3DN%26start%3D60" TargetMode="External"/><Relationship Id="rId2" Type="http://schemas.openxmlformats.org/officeDocument/2006/relationships/image" Target="../media/image2.jpeg"/><Relationship Id="rId3" Type="http://schemas.openxmlformats.org/officeDocument/2006/relationships/hyperlink" Target="http://images.google.com/imgres?imgurl=http://hotlineblog.nationaljournal.com/Barack%2520Obama%2520Capitol.jpg&amp;imgrefurl=http://hotlineoncall.nationaljournal.com/archives/2008/11/&amp;usg=__o9iFW4Ffq3mhLZ00ymBmiwD7tpk=&amp;h=1000&amp;w=800&amp;sz=188&amp;hl=en&amp;start=4&amp;tbnid=Kk2YHg2QDSqz6M:&amp;tbnh=149&amp;tbnw=119&amp;prev=/images%3Fq%3DBarak%2BObama%26gbv%3D2%26hl%3Den" TargetMode="External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7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12" descr="topp-twin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14240" y="1928880"/>
            <a:ext cx="2533680" cy="228600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4" descr="Barack%2520Obama%2520Capitol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000840" y="3357720"/>
            <a:ext cx="2000160" cy="2504880"/>
          </a:xfrm>
          <a:prstGeom prst="rect">
            <a:avLst/>
          </a:prstGeom>
          <a:ln w="0">
            <a:noFill/>
          </a:ln>
        </p:spPr>
      </p:pic>
      <p:pic>
        <p:nvPicPr>
          <p:cNvPr id="179" name="Rectangle 19" descr=""/>
          <p:cNvPicPr/>
          <p:nvPr/>
        </p:nvPicPr>
        <p:blipFill>
          <a:blip r:embed="rId5"/>
          <a:stretch/>
        </p:blipFill>
        <p:spPr>
          <a:xfrm>
            <a:off x="237960" y="341280"/>
            <a:ext cx="8382240" cy="128592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20"/>
          <p:cNvSpPr/>
          <p:nvPr/>
        </p:nvSpPr>
        <p:spPr>
          <a:xfrm>
            <a:off x="760320" y="5857920"/>
            <a:ext cx="768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at assumptions do we make about them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1" name="Picture 22" descr="http://www.islamonline.net/servlet/Satellite?blobcol=urldata&amp;blobheader=image%2Fjpeg&amp;blobkey=id&amp;blobtable=MungoBlobs&amp;blobwhere=1246515619944&amp;ssbinary=true"/>
          <p:cNvPicPr/>
          <p:nvPr/>
        </p:nvPicPr>
        <p:blipFill>
          <a:blip r:embed="rId6"/>
          <a:stretch/>
        </p:blipFill>
        <p:spPr>
          <a:xfrm>
            <a:off x="3524400" y="3357720"/>
            <a:ext cx="2047680" cy="245736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http://www.bookcouncil.org.nz/users/Image/Writer%20Files/Mila,%20Karlo/.thumb_213.33333333333213.33333333333226234240Profile.jpg"/>
          <p:cNvPicPr/>
          <p:nvPr/>
        </p:nvPicPr>
        <p:blipFill>
          <a:blip r:embed="rId7"/>
          <a:stretch/>
        </p:blipFill>
        <p:spPr>
          <a:xfrm>
            <a:off x="5286240" y="1143000"/>
            <a:ext cx="2143440" cy="21430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2" descr="http://www.islamonline.net/servlet/Satellite?blobcol=urldata&amp;blobheader=image%2Fjpeg&amp;blobkey=id&amp;blobtable=MungoBlobs&amp;blobwhere=1246515619944&amp;ssbinary=true"/>
          <p:cNvPicPr/>
          <p:nvPr/>
        </p:nvPicPr>
        <p:blipFill>
          <a:blip r:embed="rId1"/>
          <a:stretch/>
        </p:blipFill>
        <p:spPr>
          <a:xfrm>
            <a:off x="1000080" y="714240"/>
            <a:ext cx="2048040" cy="2457720"/>
          </a:xfrm>
          <a:prstGeom prst="rect">
            <a:avLst/>
          </a:prstGeom>
          <a:ln w="0">
            <a:noFill/>
          </a:ln>
        </p:spPr>
      </p:pic>
      <p:sp>
        <p:nvSpPr>
          <p:cNvPr id="184" name="TextBox 2"/>
          <p:cNvSpPr/>
          <p:nvPr/>
        </p:nvSpPr>
        <p:spPr>
          <a:xfrm flipH="1">
            <a:off x="3429000" y="857160"/>
            <a:ext cx="4240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Where do you think she is from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What religion is sh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TextBox 4"/>
          <p:cNvSpPr/>
          <p:nvPr/>
        </p:nvSpPr>
        <p:spPr>
          <a:xfrm>
            <a:off x="3571920" y="2286000"/>
            <a:ext cx="385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ffff"/>
                </a:solidFill>
                <a:latin typeface="Arial"/>
              </a:rPr>
              <a:t>Mahinur Ozdemir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ffff"/>
                </a:solidFill>
                <a:latin typeface="Arial"/>
              </a:rPr>
              <a:t>First Belgium MP to don the Hijab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6" name="Picture 18" descr="Jemaima Tiatia and Suresa"/>
          <p:cNvPicPr/>
          <p:nvPr/>
        </p:nvPicPr>
        <p:blipFill>
          <a:blip r:embed="rId2"/>
          <a:stretch/>
        </p:blipFill>
        <p:spPr>
          <a:xfrm>
            <a:off x="5715000" y="2928960"/>
            <a:ext cx="2382840" cy="1787400"/>
          </a:xfrm>
          <a:prstGeom prst="rect">
            <a:avLst/>
          </a:prstGeom>
          <a:ln w="0">
            <a:noFill/>
          </a:ln>
        </p:spPr>
      </p:pic>
      <p:sp>
        <p:nvSpPr>
          <p:cNvPr id="187" name="Rectangle 6"/>
          <p:cNvSpPr/>
          <p:nvPr/>
        </p:nvSpPr>
        <p:spPr>
          <a:xfrm>
            <a:off x="714240" y="3286080"/>
            <a:ext cx="4786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Where do you think she is from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How would you describe her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TextBox 7"/>
          <p:cNvSpPr/>
          <p:nvPr/>
        </p:nvSpPr>
        <p:spPr>
          <a:xfrm>
            <a:off x="5715000" y="4786200"/>
            <a:ext cx="264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ffff"/>
                </a:solidFill>
                <a:latin typeface="Arial"/>
              </a:rPr>
              <a:t>Jemaima Tiatia – A NZ born Pacific Islander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9" name="Picture 9" descr="http://www.bookcouncil.org.nz/users/Image/Writer%20Files/Mila,%20Karlo/.thumb_213.33333333333213.33333333333226234240Profile.jpg"/>
          <p:cNvPicPr/>
          <p:nvPr/>
        </p:nvPicPr>
        <p:blipFill>
          <a:blip r:embed="rId3"/>
          <a:stretch/>
        </p:blipFill>
        <p:spPr>
          <a:xfrm>
            <a:off x="1428840" y="4214880"/>
            <a:ext cx="2143080" cy="2143080"/>
          </a:xfrm>
          <a:prstGeom prst="rect">
            <a:avLst/>
          </a:prstGeom>
          <a:ln w="0">
            <a:noFill/>
          </a:ln>
        </p:spPr>
      </p:pic>
      <p:sp>
        <p:nvSpPr>
          <p:cNvPr id="190" name="TextBox 9"/>
          <p:cNvSpPr/>
          <p:nvPr/>
        </p:nvSpPr>
        <p:spPr>
          <a:xfrm>
            <a:off x="3714840" y="5786280"/>
            <a:ext cx="47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ffff"/>
                </a:solidFill>
                <a:latin typeface="Arial"/>
              </a:rPr>
              <a:t>Karlo Mila, poet, born of </a:t>
            </a:r>
            <a:r>
              <a:rPr b="0" lang="sv-SE" sz="1800" spc="-1" strike="noStrike">
                <a:solidFill>
                  <a:srgbClr val="ffffff"/>
                </a:solidFill>
                <a:latin typeface="Arial"/>
              </a:rPr>
              <a:t>Tongan, Palagi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ffffff"/>
                </a:solidFill>
                <a:latin typeface="Arial"/>
              </a:rPr>
              <a:t>and Samoan descen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" dur="2000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" dur="5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500040" y="2000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ffffff"/>
                </a:solidFill>
                <a:latin typeface="Constantia"/>
              </a:rPr>
              <a:t> 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ffffff"/>
                </a:solidFill>
                <a:latin typeface="Constantia"/>
              </a:rPr>
              <a:t>“</a:t>
            </a:r>
            <a:r>
              <a:rPr b="0" lang="en-NZ" sz="2600" spc="-1" strike="noStrike">
                <a:solidFill>
                  <a:srgbClr val="ffffff"/>
                </a:solidFill>
                <a:latin typeface="Constantia"/>
              </a:rPr>
              <a:t>I am a Samoan – but not a Samoan</a:t>
            </a:r>
            <a:br>
              <a:rPr sz="2600"/>
            </a:br>
            <a:r>
              <a:rPr b="0" lang="en-NZ" sz="2600" spc="-1" strike="noStrike">
                <a:solidFill>
                  <a:srgbClr val="ffffff"/>
                </a:solidFill>
                <a:latin typeface="Constantia"/>
              </a:rPr>
              <a:t>To my aiga in Samoa, I am a palagi [foreigner]</a:t>
            </a:r>
            <a:br>
              <a:rPr sz="2600"/>
            </a:br>
            <a:r>
              <a:rPr b="0" lang="en-NZ" sz="2600" spc="-1" strike="noStrike">
                <a:solidFill>
                  <a:srgbClr val="ffffff"/>
                </a:solidFill>
                <a:latin typeface="Constantia"/>
              </a:rPr>
              <a:t>I am a New Zealander – but not a New Zealander</a:t>
            </a:r>
            <a:br>
              <a:rPr sz="2600"/>
            </a:br>
            <a:r>
              <a:rPr b="0" lang="en-NZ" sz="2600" spc="-1" strike="noStrike">
                <a:solidFill>
                  <a:srgbClr val="ffffff"/>
                </a:solidFill>
                <a:latin typeface="Constantia"/>
              </a:rPr>
              <a:t>To New Zealanders, I am a bloody coconut, at worst,</a:t>
            </a:r>
            <a:br>
              <a:rPr sz="2600"/>
            </a:br>
            <a:r>
              <a:rPr b="0" lang="en-NZ" sz="2600" spc="-1" strike="noStrike">
                <a:solidFill>
                  <a:srgbClr val="ffffff"/>
                </a:solidFill>
                <a:latin typeface="Constantia"/>
              </a:rPr>
              <a:t>A Pacific Islander, at best,</a:t>
            </a:r>
            <a:br>
              <a:rPr sz="2600"/>
            </a:br>
            <a:r>
              <a:rPr b="0" lang="en-NZ" sz="2600" spc="-1" strike="noStrike">
                <a:solidFill>
                  <a:srgbClr val="ffffff"/>
                </a:solidFill>
                <a:latin typeface="Constantia"/>
              </a:rPr>
              <a:t>To my Samoan parents, I am their child.”</a:t>
            </a:r>
            <a:r>
              <a:rPr b="0" lang="en-NZ" sz="2600" spc="-1" strike="noStrike" u="sng">
                <a:solidFill>
                  <a:srgbClr val="ffffff"/>
                </a:solidFill>
                <a:uFillTx/>
                <a:latin typeface="Constantia"/>
              </a:rPr>
              <a:t> 1</a:t>
            </a:r>
            <a:r>
              <a:rPr b="0" lang="en-NZ" sz="2600" spc="-1" strike="noStrike">
                <a:solidFill>
                  <a:srgbClr val="ffffff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2" name="Picture 9" descr="http://www.bookcouncil.org.nz/users/Image/Writer%20Files/Mila,%20Karlo/.thumb_213.33333333333213.33333333333226234240Profile.jpg"/>
          <p:cNvPicPr/>
          <p:nvPr/>
        </p:nvPicPr>
        <p:blipFill>
          <a:blip r:embed="rId1"/>
          <a:stretch/>
        </p:blipFill>
        <p:spPr>
          <a:xfrm>
            <a:off x="2928960" y="428760"/>
            <a:ext cx="2143080" cy="21430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TextBox 1"/>
          <p:cNvSpPr/>
          <p:nvPr/>
        </p:nvSpPr>
        <p:spPr>
          <a:xfrm>
            <a:off x="1214280" y="1143000"/>
            <a:ext cx="67154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This verse encapsulates the paradox of identity for many New Zealand-born Samoans. In Samoan communities they are not ‘Samoan enough’; they are ‘fiapalagi’ (wanting to be like a European)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In the wider New Zealand community Samoans have been taunted as ‘not New Zealanders’, ‘coconuts’, or ‘FOBs’ (fresh off the boat)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These see-sawing perceptions may end for some in a secure self-identity, but for others in a state of confus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1"/>
          <p:cNvSpPr/>
          <p:nvPr/>
        </p:nvSpPr>
        <p:spPr>
          <a:xfrm>
            <a:off x="1143000" y="3643200"/>
            <a:ext cx="6786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ffffff"/>
                </a:solidFill>
                <a:latin typeface="Arial"/>
              </a:rPr>
              <a:t>Jemaima Tiatia and Suresa Gav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ffff"/>
                </a:solidFill>
                <a:latin typeface="Arial"/>
              </a:rPr>
              <a:t>Many young Samoans face a conflict between the strict traditional values of respect for elders and church and their more liberal New Zealand experience. In </a:t>
            </a:r>
            <a:r>
              <a:rPr b="0" i="1" lang="en-NZ" sz="1800" spc="-1" strike="noStrike">
                <a:solidFill>
                  <a:srgbClr val="ffffff"/>
                </a:solidFill>
                <a:latin typeface="Arial"/>
              </a:rPr>
              <a:t>Caught between cultures: a New Zealand-born Pacific Island perspective</a:t>
            </a:r>
            <a:r>
              <a:rPr b="0" lang="en-NZ" sz="1800" spc="-1" strike="noStrike">
                <a:solidFill>
                  <a:srgbClr val="ffffff"/>
                </a:solidFill>
                <a:latin typeface="Arial"/>
              </a:rPr>
              <a:t> (1988) Jemaima Tiatia, a 24-year-old Auckland university student, wrote of this conflict after talking to 20 New Zealand-born Pacific Islanders. Here she shares a joke with her grandmother, Suresa Gave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5" name="Picture 2" descr="Jemaima Tiatia and Suresa Gavet"/>
          <p:cNvPicPr/>
          <p:nvPr/>
        </p:nvPicPr>
        <p:blipFill>
          <a:blip r:embed="rId1"/>
          <a:stretch/>
        </p:blipFill>
        <p:spPr>
          <a:xfrm>
            <a:off x="1857240" y="571680"/>
            <a:ext cx="4762800" cy="31143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extBox 1"/>
          <p:cNvSpPr/>
          <p:nvPr/>
        </p:nvSpPr>
        <p:spPr>
          <a:xfrm>
            <a:off x="714240" y="571680"/>
            <a:ext cx="7929720" cy="70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ffffff"/>
                </a:solidFill>
                <a:latin typeface="Constantia"/>
              </a:rPr>
              <a:t>Why do Pacific Islanders come to New Zealan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ffffff"/>
                </a:solidFill>
                <a:latin typeface="Constantia"/>
              </a:rPr>
              <a:t>Where did they come from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ffffff"/>
                </a:solidFill>
                <a:latin typeface="Constantia"/>
              </a:rPr>
              <a:t>Where did they settl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Constantia"/>
              </a:rPr>
              <a:t>Click on these sites to check out the answe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7030a0"/>
                </a:solidFill>
                <a:latin typeface="Arial"/>
              </a:rPr>
              <a:t>http://www.teara.govt.nz/en/samoans/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99"/>
                </a:solidFill>
                <a:latin typeface="Arial"/>
              </a:rPr>
              <a:t>http://www.teara.govt.nz/en/tongans/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ffffff"/>
                </a:solidFill>
                <a:latin typeface="Arial"/>
              </a:rPr>
              <a:t>http://www.teara.govt.nz/en/south-pacific-peoples/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7T03:31:32Z</dcterms:created>
  <dc:creator>Miller</dc:creator>
  <dc:description/>
  <dc:language>en-US</dc:language>
  <cp:lastModifiedBy>Administrator</cp:lastModifiedBy>
  <dcterms:modified xsi:type="dcterms:W3CDTF">2009-12-06T11:29:19Z</dcterms:modified>
  <cp:revision>11</cp:revision>
  <dc:subject/>
  <dc:title>Slide 1</dc:title>
</cp:coreProperties>
</file>